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D2E-C951-4EAF-920D-3A60FBF9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A90-621A-49F7-8D19-A6D219E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718-DEA7-42C0-98EB-60A761D3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021-6EE3-4416-A4A7-A74C3EC8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B20-6523-4F5C-95B1-15D13AFF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18B-607E-499E-9F69-B21B6AF8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E89-E2B3-403C-A258-85E7664E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88F-1F5C-4AEA-91AE-6ED1C61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5B4-02EB-47CC-9715-2E9D0EBF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46C-1301-4B64-809E-BDE3F28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171-A9CF-4BAF-969D-D64BF2C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0F2-3509-4045-BD6F-B0883683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84C-41C4-4397-BE16-C084C3A1E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vi Bl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295280" y="1219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http://t2.gstatic.com/images?q=tbn:ANd9GcRemqWyHv1g6eFvxAV2xOaWohOK4LfZqOPHNT_4hk9-7uYpZiN3"/>
          <p:cNvPicPr/>
          <p:nvPr/>
        </p:nvPicPr>
        <p:blipFill>
          <a:blip r:embed="rId1"/>
          <a:stretch/>
        </p:blipFill>
        <p:spPr>
          <a:xfrm>
            <a:off x="762120" y="2119320"/>
            <a:ext cx="563868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http://t1.gstatic.com/images?q=tbn:ANd9GcSWaNzxW1XEyhZ-cMnwsfZEMjE7_8e2KT1s0Ujke0ZJnbHWf8fT"/>
          <p:cNvPicPr/>
          <p:nvPr/>
        </p:nvPicPr>
        <p:blipFill>
          <a:blip r:embed="rId1"/>
          <a:stretch/>
        </p:blipFill>
        <p:spPr>
          <a:xfrm>
            <a:off x="2590920" y="2722680"/>
            <a:ext cx="419076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t1.gstatic.com/images?q=tbn:ANd9GcSxEObfKYuDbfhtPXGCLiG-wwDmOr_OKlDzy64yWceZ4yNOGKaUtw"/>
          <p:cNvPicPr/>
          <p:nvPr/>
        </p:nvPicPr>
        <p:blipFill>
          <a:blip r:embed="rId1"/>
          <a:stretch/>
        </p:blipFill>
        <p:spPr>
          <a:xfrm>
            <a:off x="3048120" y="2362320"/>
            <a:ext cx="434340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loponnes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t1.gstatic.com/images?q=tbn:ANd9GcRBOWdh7VLKwHk_ELsLxVBUEUk9PhQInfhWg3H0IZqS980FTEqe"/>
          <p:cNvPicPr/>
          <p:nvPr/>
        </p:nvPicPr>
        <p:blipFill>
          <a:blip r:embed="rId1"/>
          <a:stretch/>
        </p:blipFill>
        <p:spPr>
          <a:xfrm>
            <a:off x="2971800" y="182880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t3.gstatic.com/images?q=tbn:ANd9GcRBU0KbgNTMGeynISfTnTF54SOZnVwWF0BhSmplVc2QzI8YBBDj9w"/>
          <p:cNvPicPr/>
          <p:nvPr/>
        </p:nvPicPr>
        <p:blipFill>
          <a:blip r:embed="rId1"/>
          <a:stretch/>
        </p:blipFill>
        <p:spPr>
          <a:xfrm>
            <a:off x="1676520" y="2685960"/>
            <a:ext cx="3352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295280" y="12193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1828800" y="2819520"/>
            <a:ext cx="5591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http://www.greece-athens.com/gallery_images/56.jpg"/>
          <p:cNvPicPr/>
          <p:nvPr/>
        </p:nvPicPr>
        <p:blipFill>
          <a:blip r:embed="rId1"/>
          <a:stretch/>
        </p:blipFill>
        <p:spPr>
          <a:xfrm>
            <a:off x="304920" y="2133720"/>
            <a:ext cx="4933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conduct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ttp://www.greece-athens.com/places_images/31.jpg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 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www.cusdi.org/images/pnyx.jpg"/>
          <p:cNvPicPr/>
          <p:nvPr/>
        </p:nvPicPr>
        <p:blipFill>
          <a:blip r:embed="rId1"/>
          <a:stretch/>
        </p:blipFill>
        <p:spPr>
          <a:xfrm>
            <a:off x="4114800" y="2590920"/>
            <a:ext cx="4734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0" y="2514600"/>
            <a:ext cx="1832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42900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143000" y="14479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t3.gstatic.com/images?q=tbn:ANd9GcT3p8XOJlbAgiKL2sXXZgweSWNWOT4jzOixPM4JOaR3GY8YhaZfsA"/>
          <p:cNvPicPr/>
          <p:nvPr/>
        </p:nvPicPr>
        <p:blipFill>
          <a:blip r:embed="rId1"/>
          <a:stretch/>
        </p:blipFill>
        <p:spPr>
          <a:xfrm>
            <a:off x="3200400" y="251460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895480" y="3808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0" y="1143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t1.gstatic.com/images?q=tbn:ANd9GcRAql_D7GSSFXfVjtoPeMQVNg7f76VFzdzSSAqOtuOsOoE_4weo4g"/>
          <p:cNvPicPr/>
          <p:nvPr/>
        </p:nvPicPr>
        <p:blipFill>
          <a:blip r:embed="rId1"/>
          <a:stretch/>
        </p:blipFill>
        <p:spPr>
          <a:xfrm>
            <a:off x="914400" y="2166840"/>
            <a:ext cx="60958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523880" y="114300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a court of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TmeL0E28VcBspRNjiAaFSiOHjbB9XucQYUw3c9-0ib9VHRpsHO"/>
          <p:cNvPicPr/>
          <p:nvPr/>
        </p:nvPicPr>
        <p:blipFill>
          <a:blip r:embed="rId1"/>
          <a:stretch/>
        </p:blipFill>
        <p:spPr>
          <a:xfrm>
            <a:off x="304920" y="2598840"/>
            <a:ext cx="4952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581280" y="304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23880" y="1143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http://t2.gstatic.com/images?q=tbn:ANd9GcQSaST7n5kt7e55a1PSmx4XhXjU_sWZsQsTdra1aHp77ppF-x_z"/>
          <p:cNvPicPr/>
          <p:nvPr/>
        </p:nvPicPr>
        <p:blipFill>
          <a:blip r:embed="rId1"/>
          <a:stretch/>
        </p:blipFill>
        <p:spPr>
          <a:xfrm>
            <a:off x="2666880" y="2514600"/>
            <a:ext cx="51246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0:49:41Z</dcterms:modified>
  <cp:revision>100</cp:revision>
  <dc:subject/>
  <dc:title>Ancient Greece</dc:title>
</cp:coreProperties>
</file>